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1.wmf" ContentType="image/x-wmf"/>
  <Override PartName="/ppt/media/image26.png" ContentType="image/png"/>
  <Override PartName="/ppt/media/image33.png" ContentType="image/png"/>
  <Override PartName="/ppt/media/image3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0CC8-D118-4C51-B015-CC222412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EA9-0A07-4AFC-9804-AF386A64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411-EF7E-4BBC-BDE4-5463FD36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73B-6FD8-4509-9445-96B699B4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AAE-901E-4C41-B7D9-DFF6F2E8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FB7-1FBD-4363-8FFB-CA932E70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C91-6046-44FE-B9E9-4FF9A7F8E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348-90A2-450C-8801-BF30DBD4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273-2808-48D3-A32E-E2ED3B20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050-577C-4056-B830-35831343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D6C-DA2F-47CE-98EB-EE811D7C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53C-1F65-4076-AE22-26E125F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DEC4-F0F9-45EA-84B2-371BFCDB3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1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31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13372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dratic 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22373" b="1681"/>
          <a:stretch/>
        </p:blipFill>
        <p:spPr>
          <a:xfrm>
            <a:off x="228600" y="914400"/>
            <a:ext cx="4495680" cy="380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346716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rcRect l="77634" t="19643" r="0" b="0"/>
          <a:stretch/>
        </p:blipFill>
        <p:spPr>
          <a:xfrm>
            <a:off x="1523880" y="1371600"/>
            <a:ext cx="1295640" cy="3110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0" y="1676520"/>
            <a:ext cx="5410080" cy="1102680"/>
            <a:chOff x="0" y="1676520"/>
            <a:chExt cx="5410080" cy="1102680"/>
          </a:xfrm>
        </p:grpSpPr>
        <p:pic>
          <p:nvPicPr>
            <p:cNvPr id="99" name="" descr=""/>
            <p:cNvPicPr/>
            <p:nvPr/>
          </p:nvPicPr>
          <p:blipFill>
            <a:blip r:embed="rId5"/>
            <a:srcRect l="0" t="0" r="46668" b="41937"/>
            <a:stretch/>
          </p:blipFill>
          <p:spPr>
            <a:xfrm>
              <a:off x="75960" y="1676520"/>
              <a:ext cx="53341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6"/>
            <a:srcRect l="53336" t="0" r="-97" b="25044"/>
            <a:stretch/>
          </p:blipFill>
          <p:spPr>
            <a:xfrm>
              <a:off x="0" y="2057400"/>
              <a:ext cx="4876560" cy="5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7"/>
            <a:srcRect l="0" t="50030" r="64002" b="0"/>
            <a:stretch/>
          </p:blipFill>
          <p:spPr>
            <a:xfrm>
              <a:off x="47520" y="2438280"/>
              <a:ext cx="3733920" cy="34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0" y="3352680"/>
            <a:ext cx="5657760" cy="723960"/>
            <a:chOff x="0" y="3352680"/>
            <a:chExt cx="5657760" cy="723960"/>
          </a:xfrm>
        </p:grpSpPr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>
              <a:off x="0" y="3352680"/>
              <a:ext cx="565776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9"/>
            <a:stretch/>
          </p:blipFill>
          <p:spPr>
            <a:xfrm>
              <a:off x="76320" y="3733920"/>
              <a:ext cx="355284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0"/>
            <a:stretch/>
          </p:blipFill>
          <p:spPr>
            <a:xfrm>
              <a:off x="3624120" y="3733920"/>
              <a:ext cx="981360" cy="34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152280" y="4419720"/>
            <a:ext cx="4943520" cy="1114200"/>
            <a:chOff x="152280" y="4419720"/>
            <a:chExt cx="4943520" cy="1114200"/>
          </a:xfrm>
        </p:grpSpPr>
        <p:pic>
          <p:nvPicPr>
            <p:cNvPr id="107" name="" descr=""/>
            <p:cNvPicPr/>
            <p:nvPr/>
          </p:nvPicPr>
          <p:blipFill>
            <a:blip r:embed="rId11"/>
            <a:stretch/>
          </p:blipFill>
          <p:spPr>
            <a:xfrm>
              <a:off x="152280" y="4419720"/>
              <a:ext cx="494352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2"/>
            <a:stretch/>
          </p:blipFill>
          <p:spPr>
            <a:xfrm>
              <a:off x="152280" y="4819680"/>
              <a:ext cx="435312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3"/>
            <a:stretch/>
          </p:blipFill>
          <p:spPr>
            <a:xfrm>
              <a:off x="185760" y="5257800"/>
              <a:ext cx="3457440" cy="27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14"/>
          <a:stretch/>
        </p:blipFill>
        <p:spPr>
          <a:xfrm>
            <a:off x="228600" y="6111720"/>
            <a:ext cx="51055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0" r="22373" b="1681"/>
          <a:stretch/>
        </p:blipFill>
        <p:spPr>
          <a:xfrm>
            <a:off x="228600" y="914400"/>
            <a:ext cx="449568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346716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rcRect l="77634" t="19643" r="0" b="0"/>
          <a:stretch/>
        </p:blipFill>
        <p:spPr>
          <a:xfrm>
            <a:off x="1523880" y="1371600"/>
            <a:ext cx="1295640" cy="3110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0" y="1676520"/>
            <a:ext cx="5410080" cy="1102680"/>
            <a:chOff x="0" y="1676520"/>
            <a:chExt cx="5410080" cy="1102680"/>
          </a:xfrm>
        </p:grpSpPr>
        <p:pic>
          <p:nvPicPr>
            <p:cNvPr id="116" name="" descr=""/>
            <p:cNvPicPr/>
            <p:nvPr/>
          </p:nvPicPr>
          <p:blipFill>
            <a:blip r:embed="rId5"/>
            <a:srcRect l="0" t="0" r="46668" b="41937"/>
            <a:stretch/>
          </p:blipFill>
          <p:spPr>
            <a:xfrm>
              <a:off x="75960" y="1676520"/>
              <a:ext cx="53341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6"/>
            <a:srcRect l="53336" t="0" r="-97" b="25044"/>
            <a:stretch/>
          </p:blipFill>
          <p:spPr>
            <a:xfrm>
              <a:off x="0" y="2057400"/>
              <a:ext cx="4876560" cy="5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7"/>
            <a:srcRect l="0" t="50030" r="64002" b="0"/>
            <a:stretch/>
          </p:blipFill>
          <p:spPr>
            <a:xfrm>
              <a:off x="47520" y="2438280"/>
              <a:ext cx="3733920" cy="34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228600" y="6369120"/>
            <a:ext cx="5105520" cy="48888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52280" y="2971800"/>
            <a:ext cx="4724640" cy="752040"/>
            <a:chOff x="152280" y="2971800"/>
            <a:chExt cx="4724640" cy="752040"/>
          </a:xfrm>
        </p:grpSpPr>
        <p:pic>
          <p:nvPicPr>
            <p:cNvPr id="121" name="" descr=""/>
            <p:cNvPicPr/>
            <p:nvPr/>
          </p:nvPicPr>
          <p:blipFill>
            <a:blip r:embed="rId9"/>
            <a:srcRect l="0" t="0" r="35669" b="17926"/>
            <a:stretch/>
          </p:blipFill>
          <p:spPr>
            <a:xfrm>
              <a:off x="152280" y="2971800"/>
              <a:ext cx="47246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0"/>
            <a:srcRect l="64336" t="0" r="0" b="0"/>
            <a:stretch/>
          </p:blipFill>
          <p:spPr>
            <a:xfrm>
              <a:off x="609480" y="3352680"/>
              <a:ext cx="2619360" cy="37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838080" y="3800520"/>
            <a:ext cx="350532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65141" t="0" r="0" b="8923"/>
          <a:stretch/>
        </p:blipFill>
        <p:spPr>
          <a:xfrm>
            <a:off x="1219320" y="3809880"/>
            <a:ext cx="3792240" cy="53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0" r="34862" b="8923"/>
          <a:stretch/>
        </p:blipFill>
        <p:spPr>
          <a:xfrm>
            <a:off x="457200" y="3276720"/>
            <a:ext cx="70866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4038480" cy="531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52280" y="762120"/>
            <a:ext cx="8934480" cy="2085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3191" b="0"/>
          <a:stretch/>
        </p:blipFill>
        <p:spPr>
          <a:xfrm>
            <a:off x="1219320" y="2990880"/>
            <a:ext cx="6933960" cy="3867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114800" y="2590920"/>
            <a:ext cx="3352680" cy="5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229600" cy="49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8744040" cy="771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33520" y="2819520"/>
            <a:ext cx="3809880" cy="2630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724280" y="2895480"/>
            <a:ext cx="40467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6705360" cy="474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6040" y="1600200"/>
            <a:ext cx="896796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28600" y="4191120"/>
            <a:ext cx="46386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29200" y="4267080"/>
            <a:ext cx="35053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the maximum height of the project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far from the base of the cliff will the projectile strike the wat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5181480" cy="52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81160" y="914400"/>
            <a:ext cx="8862840" cy="1581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371600" y="3352680"/>
            <a:ext cx="6629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33720" y="83808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295960" cy="2638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" y="2514600"/>
            <a:ext cx="88581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22373" b="1681"/>
          <a:stretch/>
        </p:blipFill>
        <p:spPr>
          <a:xfrm>
            <a:off x="228600" y="914400"/>
            <a:ext cx="4495680" cy="38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346716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rcRect l="77634" t="19643" r="0" b="0"/>
          <a:stretch/>
        </p:blipFill>
        <p:spPr>
          <a:xfrm>
            <a:off x="1523880" y="1371600"/>
            <a:ext cx="1295640" cy="31104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676520"/>
            <a:ext cx="5410080" cy="1102680"/>
            <a:chOff x="0" y="1676520"/>
            <a:chExt cx="5410080" cy="1102680"/>
          </a:xfrm>
        </p:grpSpPr>
        <p:pic>
          <p:nvPicPr>
            <p:cNvPr id="72" name="" descr=""/>
            <p:cNvPicPr/>
            <p:nvPr/>
          </p:nvPicPr>
          <p:blipFill>
            <a:blip r:embed="rId5"/>
            <a:srcRect l="0" t="0" r="46668" b="41937"/>
            <a:stretch/>
          </p:blipFill>
          <p:spPr>
            <a:xfrm>
              <a:off x="75960" y="1676520"/>
              <a:ext cx="53341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6"/>
            <a:srcRect l="53336" t="0" r="-97" b="25044"/>
            <a:stretch/>
          </p:blipFill>
          <p:spPr>
            <a:xfrm>
              <a:off x="0" y="2057400"/>
              <a:ext cx="4876560" cy="5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7"/>
            <a:srcRect l="0" t="50030" r="64002" b="0"/>
            <a:stretch/>
          </p:blipFill>
          <p:spPr>
            <a:xfrm>
              <a:off x="47520" y="2438280"/>
              <a:ext cx="3733920" cy="34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28600" y="3048120"/>
            <a:ext cx="4857840" cy="1366560"/>
            <a:chOff x="228600" y="3048120"/>
            <a:chExt cx="4857840" cy="1366560"/>
          </a:xfrm>
        </p:grpSpPr>
        <p:pic>
          <p:nvPicPr>
            <p:cNvPr id="76" name="" descr=""/>
            <p:cNvPicPr/>
            <p:nvPr/>
          </p:nvPicPr>
          <p:blipFill>
            <a:blip r:embed="rId8"/>
            <a:stretch/>
          </p:blipFill>
          <p:spPr>
            <a:xfrm>
              <a:off x="228600" y="3048120"/>
              <a:ext cx="48578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9"/>
            <a:stretch/>
          </p:blipFill>
          <p:spPr>
            <a:xfrm>
              <a:off x="228600" y="3429000"/>
              <a:ext cx="4381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0"/>
            <a:stretch/>
          </p:blipFill>
          <p:spPr>
            <a:xfrm>
              <a:off x="228600" y="3733920"/>
              <a:ext cx="436248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1"/>
            <a:srcRect l="0" t="15821" r="0" b="0"/>
            <a:stretch/>
          </p:blipFill>
          <p:spPr>
            <a:xfrm>
              <a:off x="228600" y="4110120"/>
              <a:ext cx="1990800" cy="30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838080" y="4457880"/>
            <a:ext cx="34099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0" t="0" r="22373" b="1681"/>
          <a:stretch/>
        </p:blipFill>
        <p:spPr>
          <a:xfrm>
            <a:off x="228600" y="914400"/>
            <a:ext cx="4495680" cy="380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562720" y="0"/>
            <a:ext cx="34671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77634" t="19643" r="0" b="0"/>
          <a:stretch/>
        </p:blipFill>
        <p:spPr>
          <a:xfrm>
            <a:off x="1523880" y="1371600"/>
            <a:ext cx="1295640" cy="31104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0" y="1676520"/>
            <a:ext cx="5410080" cy="1102680"/>
            <a:chOff x="0" y="1676520"/>
            <a:chExt cx="5410080" cy="1102680"/>
          </a:xfrm>
        </p:grpSpPr>
        <p:pic>
          <p:nvPicPr>
            <p:cNvPr id="86" name="" descr=""/>
            <p:cNvPicPr/>
            <p:nvPr/>
          </p:nvPicPr>
          <p:blipFill>
            <a:blip r:embed="rId5"/>
            <a:srcRect l="0" t="0" r="46668" b="41937"/>
            <a:stretch/>
          </p:blipFill>
          <p:spPr>
            <a:xfrm>
              <a:off x="75960" y="1676520"/>
              <a:ext cx="53341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rcRect l="53336" t="0" r="-97" b="25044"/>
            <a:stretch/>
          </p:blipFill>
          <p:spPr>
            <a:xfrm>
              <a:off x="0" y="2057400"/>
              <a:ext cx="4876560" cy="51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rcRect l="0" t="50030" r="64002" b="0"/>
            <a:stretch/>
          </p:blipFill>
          <p:spPr>
            <a:xfrm>
              <a:off x="47520" y="2438280"/>
              <a:ext cx="3733920" cy="34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"/>
          <p:cNvGrpSpPr/>
          <p:nvPr/>
        </p:nvGrpSpPr>
        <p:grpSpPr>
          <a:xfrm>
            <a:off x="228600" y="2895480"/>
            <a:ext cx="5181480" cy="714240"/>
            <a:chOff x="228600" y="2895480"/>
            <a:chExt cx="5181480" cy="714240"/>
          </a:xfrm>
        </p:grpSpPr>
        <p:pic>
          <p:nvPicPr>
            <p:cNvPr id="90" name="" descr=""/>
            <p:cNvPicPr/>
            <p:nvPr/>
          </p:nvPicPr>
          <p:blipFill>
            <a:blip r:embed="rId8"/>
            <a:stretch/>
          </p:blipFill>
          <p:spPr>
            <a:xfrm>
              <a:off x="228600" y="2895480"/>
              <a:ext cx="518148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9"/>
            <a:stretch/>
          </p:blipFill>
          <p:spPr>
            <a:xfrm>
              <a:off x="228600" y="3276360"/>
              <a:ext cx="361944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1066680" y="3684600"/>
            <a:ext cx="3429000" cy="241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0" y="6124680"/>
            <a:ext cx="5562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3T22:03:23Z</dcterms:modified>
  <cp:revision>6</cp:revision>
  <dc:subject/>
  <dc:title>Slide 1</dc:title>
</cp:coreProperties>
</file>